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3F2-0B87-47AE-BDB1-120423EE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44A-8485-44FA-B3A9-178741BF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129-5C18-41E8-B35F-6E7729DC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5F8-692F-4F86-8D12-4EA42330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425-FAAE-423D-9685-52A0DB7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9D4-1826-4658-A8E5-A69116E8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656-E039-44C3-8C60-56AC242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6E8-A8F2-49A7-917B-6571833E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18216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10B-6B23-4122-B0A1-B7F2966D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07A-3E8E-4F5E-8E85-4B6C8A68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C90-9686-45E6-B07D-88F1896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F63-4A38-41AD-A41E-4C2A37F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marL="24444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30280" indent="-203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162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41560" indent="-1620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236840"/>
            <a:ext cx="217152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549C4A76-08E6-461D-8688-9DB39E49A75D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0940" t="29728" r="17531" b="31636"/>
          <a:stretch/>
        </p:blipFill>
        <p:spPr>
          <a:xfrm>
            <a:off x="380880" y="228600"/>
            <a:ext cx="5722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54:45Z</dcterms:created>
  <dc:creator>Gary J. Ferland</dc:creator>
  <dc:description/>
  <dc:language>en-US</dc:language>
  <cp:lastModifiedBy>Gary J. Ferland</cp:lastModifiedBy>
  <dcterms:modified xsi:type="dcterms:W3CDTF">2009-01-10T02:09:33Z</dcterms:modified>
  <cp:revision>1</cp:revision>
  <dc:subject/>
  <dc:title>Slide 1</dc:title>
</cp:coreProperties>
</file>