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4572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318A-E7D2-4C2D-876C-4BF19B7B4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18216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1066320"/>
            <a:ext cx="617220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2642760"/>
            <a:ext cx="617220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0EBC-5EE8-48E2-AE10-69061E8C8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18216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1066320"/>
            <a:ext cx="301176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1066320"/>
            <a:ext cx="301176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2642760"/>
            <a:ext cx="301176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2642760"/>
            <a:ext cx="301176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49A8-7EC4-4428-A9F0-68D3D17CC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18216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1066320"/>
            <a:ext cx="198720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1066320"/>
            <a:ext cx="198720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1066320"/>
            <a:ext cx="198720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2642760"/>
            <a:ext cx="198720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2642760"/>
            <a:ext cx="198720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2642760"/>
            <a:ext cx="198720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8BE3-4A76-4CE8-835E-F9198357A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18216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1066320"/>
            <a:ext cx="6172200" cy="30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8090-A9B2-421F-A9B6-0DE89BA3C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18216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1066320"/>
            <a:ext cx="6172200" cy="30178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375E-FD7E-4C97-91F7-98CE4CBDE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18216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1066320"/>
            <a:ext cx="3011760" cy="30178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1066320"/>
            <a:ext cx="3011760" cy="30178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8EE0-23CD-4345-9914-2B27A0F92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18216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C46A-3FE9-4F3B-902A-BE907F0C6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182160"/>
            <a:ext cx="6172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7338-0B0A-4F37-AC90-DB2C35B7F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18216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1066320"/>
            <a:ext cx="301176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1066320"/>
            <a:ext cx="3011760" cy="30178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2642760"/>
            <a:ext cx="301176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5269-C6F6-4730-A51B-C3471EC2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18216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1066320"/>
            <a:ext cx="3011760" cy="30178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1066320"/>
            <a:ext cx="301176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2642760"/>
            <a:ext cx="301176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5B5D-9416-4346-B03B-AC7F8CD1C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18216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1066320"/>
            <a:ext cx="301176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1066320"/>
            <a:ext cx="301176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2642760"/>
            <a:ext cx="6172200" cy="1439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B342-0803-412A-9161-E8E3525D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18216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1066320"/>
            <a:ext cx="6172200" cy="30178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marL="244440" indent="-2444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30280" indent="-2034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816120" indent="-1620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141560" indent="-1620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468440" indent="-16200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468440" indent="-16200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468440" indent="-16200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4236840"/>
            <a:ext cx="1600200" cy="24444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lstStyle>
            <a:lvl1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4236840"/>
            <a:ext cx="2171520" cy="24444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4236840"/>
            <a:ext cx="1600200" cy="24444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lstStyle>
            <a:lvl1pPr indent="0" algn="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fld id="{2B9DD8CD-6574-455C-8221-827832EDCE59}" type="slidenum">
              <a:rPr b="0" lang="en-US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rcRect l="10940" t="29728" r="17531" b="31636"/>
          <a:stretch/>
        </p:blipFill>
        <p:spPr>
          <a:xfrm>
            <a:off x="380880" y="228600"/>
            <a:ext cx="572292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01:54:45Z</dcterms:created>
  <dc:creator>Gary J. Ferland</dc:creator>
  <dc:description/>
  <dc:language>en-US</dc:language>
  <cp:lastModifiedBy>Gary J. Ferland</cp:lastModifiedBy>
  <dcterms:modified xsi:type="dcterms:W3CDTF">2009-01-10T02:09:33Z</dcterms:modified>
  <cp:revision>1</cp:revision>
  <dc:subject/>
  <dc:title>Slide 1</dc:title>
</cp:coreProperties>
</file>